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B07-25E0-4CFB-9F59-258E74F0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248-CAD9-43B9-AE9F-BF2B4075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B94-8F5F-4BE6-88B9-1C9749C7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12B-1916-441E-A69A-9F3BB20D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B44-C159-4A6D-9D10-1CF6AB58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7EA-1587-4907-9C9D-B6A3762A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A5C-B8A0-434C-AA07-F602814A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E9B-EE2C-441C-8251-5ACC22FA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F73-B94E-406E-BA28-333AF873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F67-E5FE-4F53-89C1-777B104D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788-F0B9-41B7-8DA1-A164F677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4C4-E72D-43D9-89EB-C289D879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E752-BD88-4029-BDB0-BE71542274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FOU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214200" y="1666800"/>
            <a:ext cx="892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φιλων την ψυχην αὐτου οὐ σωσει αὐτην, και ὁ μισων την ψυχην αὐτου ἐν τῳ κοσμῳ τουτῳ εἰς ζωην αἰωνιον φυλαξει αὐτ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ξελθων εἰδεν πολυν ὀχλον και ἠλεησεν ἐπ’ αὐτους, ὁτι ἠσαν ὡς προβατα μη ἐχοντα ποιμεν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hepher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και ἠρξατο διδασκειν αὐτους πολλ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μην ἀμην λεγω ὑμιν ὁτι ὁ τον λογον μου ἀκουων και πιστευων τῳ πεμψαντι με ἐχει ζωην αἰωνιον και εἰς κρισιν οὐκ ἐρχ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ς ὁ θεωρων τον υἱον και πιστευων εἰς αὐτον ἐχει ζωην αἰων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οὐν Ἰουδαιοι περι αὐτου ἐλαλουν μετ’ ἀλληλων ὁτι εἰπεν∙ Ἐγω εἰμι ὁ ἀρτος ὁ καταβας ἐκ του οὐραν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ς γαρ ἐστιν ὁ λογος δια Ἠσαϊου του προφητου λεγοντος∙ Φωνη κραζοντος ἐν τῃ ἐρημῳ∙ Ἑτοιμασατε την ὁδον κυρι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9081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42920" y="1357200"/>
            <a:ext cx="8929800" cy="43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ν τε προς αὐτους∙ Ἀνδρες Ἰσραηλ, προσεχετε ἑαυτοις ἐπι τοις ἀνθρωποις τουτοις τί μελλετε πρασσ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ὁ Σατανας ἠν ἐν τῃ ἐρημῳ πολλας ἡμερας πειραζων αὐτον, και ὁ Ἰησους ἠν μετα των θηριων, και οἱ ἀγγελοι διηκονου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For the father has subjected all things under the feet of the 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Beloved children, guard yourselves against 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FangSong"/>
              </a:rPr>
              <a:t>ἀπ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] those who hate your so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That stone has the image of Caesar, not of some Gr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FangSong"/>
              </a:rPr>
              <a:t>What therefore will the lord of the vineyard do?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FangSo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4200" y="1666800"/>
            <a:ext cx="89298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λλα ἐχω ὑμιν γραφειν ἀλλα ἐλπιζω γενεσθαι προς ὑμας και στομα προς στομα λαλησ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εἰπεν ὁ Ἰησους∙ Εἰς κριμα ἐγω εἰς τον κοσμον τουτον ἠ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αις του διδασκαλου ἐμισει τα βιβλια του πατρο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προσελθων ἠγειρεν αὐτην κρατησας της χειρ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ρχονται εἰς Ἱεροσολυμα∙ και εἰσελθων εἰς το ἱερον ἠρξατο ἐκβαλλειν τους ἀγοραζοντας ἐν τῳ ἱερ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Φαρισαιος προς ἑαυτον ταυτα προσηυχετο∙ Ὁ θεος, εὐχαριστω σοι ὁτι οὐκ εἰμι ὡσπερ οἱ ἀλλοι ἀνθρωποι, ἠ και ὡς οὑτος ὁ ἁμαρτωλος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14200" y="1214280"/>
            <a:ext cx="892980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πρεσβυτεροι και οἱ διδασκαλοι ὀφειλουσιν διακονειν τοις προβατοις και προφητευειν τοις ἁμαρτωλοις και θεραπευειν τους ἀσθενεις και μητε βλασφημειν τον θεον ἡμων μητε σκανδαλιζειν τα παιδια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λεγετε ἐν ἑαυτοις∙ Πατερα ἐχομεν τον Ἀβρααμ. λεγω γαρ ὑμιν ὁτι δυναται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 abl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ἐκ των λιθων τουτων ἐγειραι τεκνα τῳ Ἀβραα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ars of the sinners do not hear the seed which the sewing one s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dgement begins with the household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lder prayed for James, and the lord, having heard, had mer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498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uching the sinner, the one serving the Father in heaven healed her ears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14200" y="1285920"/>
            <a:ext cx="8715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1.7-10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ἐκήρυσσεν λέγων, Ἔρχεται ὁ ἰσχυρότερ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ore powerful tha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ου ὀπίσω μου,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o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ὗ οὐκ εἰμὶ ἱκανὸ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orth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ύψ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υπτω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nd dow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ῦσαι τὸν ἱμάντ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ap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ῶν ὑποδημάτω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ndal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ῦ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8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γὼ ἐβάπτισα ὑμᾶς ὕδατι, αὐτὸς δὲ βαπτίσει ὑμᾶς ἐν πνεύματι ἁγίῳ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9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ἐγένετο ἐν ἐκείναις ταῖς ἡμέραις ἦλθεν Ἰησοῦς ἀπὸ Ναζαρὲτ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azareth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τῆς Γαλιλαίας καὶ ἐβαπτίσθη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 was baptize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 τὸν Ἰορδάνη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Jorda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ὸ Ἰωάννου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εὐθὺς ἀναβαίνων ἐκ τοῦ ὕδατος εἶδεν σχιζομένου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ing spli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ὺς οὐρανοὺς καὶ τὸ πνεῦμα ὡς περιστερὰ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v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ταβαῖνον εἰς αὐτόν.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3:09:36Z</dcterms:created>
  <dc:creator>Sarah</dc:creator>
  <dc:description/>
  <dc:language>en-US</dc:language>
  <cp:lastModifiedBy>Sarah</cp:lastModifiedBy>
  <dcterms:modified xsi:type="dcterms:W3CDTF">2009-07-09T18:49:15Z</dcterms:modified>
  <cp:revision>28</cp:revision>
  <dc:subject/>
  <dc:title>Slide 1</dc:title>
</cp:coreProperties>
</file>